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72745-A86C-4F1B-8C16-C3BF361F1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9176-2AAA-482E-BB96-98AFDD01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A3DA-3823-42E1-A483-7DCCFCAA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23D45-ADFB-4EE3-AA47-39901E1642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890D-25AD-453E-82AB-AF175380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0B79-E0B5-4FCA-9F61-5FAD026F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237A-85AF-4A7C-9649-12E9C4EC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12F9-9CF5-4FFB-AB0E-18BF10B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190B-D9E0-4428-876C-EE7BF9719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E1BA-1134-40E0-BB21-55551A49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C78-2DB5-4E2F-9B60-A990B665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1528-3921-45C3-9599-79C531CF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21C1-526E-4056-B53F-9B91977D9C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部麻醉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：简称腰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在全身麻醉下行右肺上叶肺癌根治术，术中顺利，安返病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此时应采取何种体位？②为何采取这种体位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患者麻醉后未完全清醒或感觉未完全恢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或改善病理生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给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患者在麻醉前情绪稳定，充分配合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，缓解原发疾病或麻醉前有创操作引起的疼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减少唾液分泌，以防误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因手术或麻醉产生的不良反射，特别是迷走神经反射，以维持血流动力学的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麻醉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蛛网膜下隙阻滞并发症的预防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局部麻醉、蛛网膜下隙阻滞、硬脊膜外阻滞、全身麻醉的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麻醉前常用药物及其目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各种麻醉主要并发症的预防和处理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阐述局部麻醉、蛛网膜下隙阻滞、硬脊膜外阻滞、全身麻醉主要并发症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麻醉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并发症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反流与误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4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常用药物包括酯类和酰胺类局麻药，麻醉方法包括表面麻醉、局部浸润麻醉、区域阻滞和神经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应做好心理和生理准备。麻醉期间注意对局麻药毒性反应和过敏反应等并发症的观察和护理。麻醉后一般无需特殊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方法  包括蛛网膜下隙阻滞（简称腰麻）和硬膜外腔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做好心理和生理准备。麻醉期间注意对血压下降、心率缓慢、呼吸抑制、恶心、呕吐、全脊髓麻醉、局麻药毒性反应等并发症的观察和护理。麻醉后注意病情观察，吸氧，蛛网膜下腔阻滞后去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硬膜外阻滞后垫枕平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。注意对头痛、尿潴留、硬膜外血肿等并发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用药物或其他方法，使患者的整个机体或机体的一部分暂时失去感觉，以达到手术时无痛的目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咳嗽，痰中带血丝于当地医院就诊。患者自述咳嗽、咳痰，晨起痰多，黄绿色，有慢性支气管炎病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否认结核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日。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肺上叶后段周围型结节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局部侵犯壁层胸膜，明确诊断为右肺癌，拟在全身麻醉下行右肺上叶肺癌根治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麻醉前护理评估的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（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-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-1   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482480"/>
                <a:gridCol w="428148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病情分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包括血、尿、便常规、出凝血时间、血清电解质、肝肾功能、血糖、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、心电图检查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32:45Z</dcterms:modified>
  <cp:revision>96</cp:revision>
  <dc:subject/>
  <dc:title>内科护理学</dc:title>
</cp:coreProperties>
</file>